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2.png" ContentType="image/png"/>
  <Override PartName="/ppt/media/image2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026-3223-4862-9E66-6B1DBC1B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9AA2-CC55-4F4C-BC7C-6CB39292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26B-A1F2-4B18-A240-06B0C96B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97D-291A-4B16-8323-EF09037F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0E71-CEC7-4E0E-A9A0-8B28BE38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B448-0E22-45B8-99D8-E7E43130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D41-4495-4132-9815-A9985E54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FDB-DA85-4591-A80C-D2D1BC69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944-440F-4CA3-BB38-C3A14EA0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CBC-985A-447F-8030-CD3B12D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45D0-38C1-4216-82CC-C2B50EB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321D-1133-4577-814C-7B3A8A9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E2D-DD93-4C94-8024-69B940F9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981080"/>
            <a:ext cx="8382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brary of Functions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ecewise-defined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3581280" cy="601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8120" y="1295280"/>
            <a:ext cx="2539800" cy="1049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057400" y="2895480"/>
            <a:ext cx="4267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124440" cy="560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2743200" cy="1074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286000" y="2743200"/>
            <a:ext cx="48006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2971800" cy="5936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124080" y="1143000"/>
            <a:ext cx="3048120" cy="1187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14600" y="2819520"/>
            <a:ext cx="41148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5105520" cy="5983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429000" cy="12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057400" y="3200400"/>
            <a:ext cx="556272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733560" cy="547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95480" y="1219320"/>
            <a:ext cx="3098880" cy="1236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09680" y="2666880"/>
            <a:ext cx="4267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990960" cy="56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3003480" cy="1479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743200" y="3048120"/>
            <a:ext cx="403848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800600" cy="604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971800" y="1295280"/>
            <a:ext cx="3156120" cy="1192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057400" y="2971800"/>
            <a:ext cx="495288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529240" cy="628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20" y="914400"/>
            <a:ext cx="9069480" cy="965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2920" y="1981080"/>
            <a:ext cx="34383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3" name=""/>
          <p:cNvGrpSpPr/>
          <p:nvPr/>
        </p:nvGrpSpPr>
        <p:grpSpPr>
          <a:xfrm>
            <a:off x="3962520" y="2209680"/>
            <a:ext cx="4267080" cy="4097520"/>
            <a:chOff x="3962520" y="2209680"/>
            <a:chExt cx="4267080" cy="4097520"/>
          </a:xfrm>
        </p:grpSpPr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3962520" y="2209680"/>
              <a:ext cx="4267080" cy="46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343400" y="2895480"/>
              <a:ext cx="3809880" cy="341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529240" cy="628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4520" y="914400"/>
            <a:ext cx="9069480" cy="965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10271" r="0" b="0"/>
          <a:stretch/>
        </p:blipFill>
        <p:spPr>
          <a:xfrm>
            <a:off x="3505320" y="2438280"/>
            <a:ext cx="2514600" cy="66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04920" y="3352680"/>
            <a:ext cx="3962160" cy="3114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4495680" y="3352680"/>
            <a:ext cx="38862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3520" y="2948040"/>
            <a:ext cx="7543800" cy="6969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819520" y="3646080"/>
            <a:ext cx="3558240" cy="2862720"/>
            <a:chOff x="2819520" y="3646080"/>
            <a:chExt cx="3558240" cy="2862720"/>
          </a:xfrm>
        </p:grpSpPr>
        <p:sp>
          <p:nvSpPr>
            <p:cNvPr id="104" name=""/>
            <p:cNvSpPr/>
            <p:nvPr/>
          </p:nvSpPr>
          <p:spPr>
            <a:xfrm rot="19316400">
              <a:off x="3734280" y="42076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 Black"/>
                </a:rPr>
                <a:t>W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3579000">
              <a:off x="4339440" y="5107680"/>
              <a:ext cx="24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Arial Black"/>
                </a:rPr>
                <a:t>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2819520" y="5106960"/>
            <a:ext cx="1143000" cy="53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5106960"/>
                      <a:ext cx="1143000" cy="53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2247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981080" y="304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quare Roo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362320" y="3429000"/>
            <a:ext cx="4572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7010280" cy="462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0" t="0" r="50567" b="76790"/>
          <a:stretch/>
        </p:blipFill>
        <p:spPr>
          <a:xfrm>
            <a:off x="304920" y="1295280"/>
            <a:ext cx="3352680" cy="384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800600" y="2895480"/>
            <a:ext cx="3848040" cy="3062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5181480" cy="1717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9330" t="18631" r="0" b="0"/>
          <a:stretch/>
        </p:blipFill>
        <p:spPr>
          <a:xfrm>
            <a:off x="228600" y="1600200"/>
            <a:ext cx="41148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33920" y="152280"/>
            <a:ext cx="3809880" cy="554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8520" y="990720"/>
            <a:ext cx="9015480" cy="1247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14520" y="2514600"/>
            <a:ext cx="791496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438280" y="3805200"/>
            <a:ext cx="4496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5791320" cy="3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09520" y="1143000"/>
            <a:ext cx="8934480" cy="1409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4353120" cy="260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572000" y="2743200"/>
            <a:ext cx="43704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81080" y="2286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be Roo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4038480" cy="3581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67720" cy="2352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7848360" cy="49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320" y="1371600"/>
            <a:ext cx="9058320" cy="1771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7240" y="3505320"/>
            <a:ext cx="4038480" cy="20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114800" y="3048120"/>
            <a:ext cx="5029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7652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solute Valu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67720" cy="25336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50292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040" y="3171960"/>
            <a:ext cx="879192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71800" y="380880"/>
            <a:ext cx="3505320" cy="581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596360" cy="965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81080" y="2743200"/>
            <a:ext cx="571500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733920" cy="6080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68580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09680" y="2895480"/>
            <a:ext cx="4800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3T22:08:02Z</dcterms:modified>
  <cp:revision>4</cp:revision>
  <dc:subject/>
  <dc:title>Slide 1</dc:title>
</cp:coreProperties>
</file>